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EF1-1382-4BF4-B727-09BC64DB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C1F-E62D-4D12-BFA1-60CB23C4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1C3-445B-41DB-9005-D1253BD3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723-C7BB-4322-AEE6-170BFAD4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2AA-655E-49C6-BDCA-B25B18E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28C-CA69-45F8-9C95-FFA71E1A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C95-A7A2-45D1-ADBA-860F64E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B9D-953D-48B7-9B3D-A2FACC5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3EF-9CD0-4E1F-9BA9-F63B3E5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80F-9FE8-4059-8D69-28CF364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EF5-996F-4638-9475-B551A50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DE3-2C1E-4AF2-8CE8-EE02575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546-97BC-4524-9ECD-80732D488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asa para la Ven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antha*Greene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a6a6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Cocina/Comed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09880" cy="2720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962160" cy="287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14479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 cocina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la estufa, el horno de microondas, los armarios y má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72428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comedor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mesa de come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eac2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Sa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95680" cy="298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9680" y="5105520"/>
            <a:ext cx="449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 sala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sofá, la televisión, el reproductor de DVD y m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143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95880" cy="4071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e5fe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Patio Trase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81840" cy="388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56272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patio tiene una vista bonita del jard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Jard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6172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jardín tiene flores boni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a7a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Pisc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4890960" cy="325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53341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La piscina tiene una temperatura muy b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c8c8"/>
            </a:gs>
            <a:gs pos="50000">
              <a:srgbClr val="ccffff"/>
            </a:gs>
            <a:gs pos="100000">
              <a:srgbClr val="a0c8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Gara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58672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garaje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instru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e74"/>
            </a:gs>
            <a:gs pos="100000">
              <a:srgbClr val="f4a6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Script MT Bold"/>
              </a:rPr>
              <a:t>Dormitorio Princip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52432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38104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276720" y="4648320"/>
            <a:ext cx="2695320" cy="1695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31240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l dormitorio principals tiene </a:t>
            </a:r>
            <a:r>
              <a:rPr b="0" lang="es-ES" sz="2400" spc="-1" strike="noStrike">
                <a:solidFill>
                  <a:srgbClr val="ffffff"/>
                </a:solidFill>
                <a:latin typeface="Script MT Bold"/>
              </a:rPr>
              <a:t>la cama, el armario y los caj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5a98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Dormito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19920" y="228600"/>
            <a:ext cx="276228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24480" y="487692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048120" y="4800600"/>
            <a:ext cx="2743200" cy="166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25146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dormitos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la cama, el armario y los ca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ed2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Ba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666880" cy="2001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Bellagio Bathroom"/>
          <p:cNvPicPr/>
          <p:nvPr/>
        </p:nvPicPr>
        <p:blipFill>
          <a:blip r:embed="rId2"/>
          <a:stretch/>
        </p:blipFill>
        <p:spPr>
          <a:xfrm>
            <a:off x="5791320" y="304920"/>
            <a:ext cx="2990880" cy="1992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48769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505320" y="4800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1240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El banos tiene </a:t>
            </a:r>
            <a:r>
              <a:rPr b="0" lang="es-ES" sz="3200" spc="-1" strike="noStrike">
                <a:solidFill>
                  <a:srgbClr val="ffffff"/>
                </a:solidFill>
                <a:latin typeface="Script MT Bold"/>
              </a:rPr>
              <a:t>el lavabo, la bañera, el inodoro y la du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6:25Z</dcterms:created>
  <dc:creator>greenesam</dc:creator>
  <dc:description/>
  <dc:language>en-US</dc:language>
  <cp:lastModifiedBy>greenesam</cp:lastModifiedBy>
  <dcterms:modified xsi:type="dcterms:W3CDTF">2012-05-22T17:22:34Z</dcterms:modified>
  <cp:revision>6</cp:revision>
  <dc:subject/>
  <dc:title>Slide 1</dc:title>
</cp:coreProperties>
</file>